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2884320" y="246240"/>
            <a:ext cx="2767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RCIPS INTERFACE LIS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131400" y="825480"/>
            <a:ext cx="8944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A   BLK   YR   MAN HRS   EOE   APC I/O-GVT      DOC NO         MAP/IBOP   FNL-IND   VOUCHER-NO  AMOUNT   TFO/L-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31400" y="1206360"/>
            <a:ext cx="8258760" cy="17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1   100   *    280-     1100  DPA6          CPA01CA6103348                   L       000000     2,116.64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1   100   *             1200  DPA6          CPA01CA6103348                   L       000000         8.24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1   100   *             1200  DPA6          CPA01CA6103348                   L       000000        58.30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1   100   *             1200  DPA6          CPA01CA6103348                   L       000000        96.99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FND       280-                                                                             2,280.17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APC       280-                                                                             2,280.17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79360" y="2895480"/>
            <a:ext cx="843300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55680" y="4952880"/>
            <a:ext cx="843264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7720" y="5473800"/>
            <a:ext cx="8182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BLK   14,038-                                                                            81,563.56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4520" y="6388200"/>
            <a:ext cx="7790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                                                                                                                4                    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302240" y="520560"/>
            <a:ext cx="635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7/12/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41040" y="150840"/>
            <a:ext cx="8960040" cy="5986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RCHASE REQUEST AND COMMITMENT                 PURCHASE INSTR NO.     REQUISTION NO    DATE          PAGE    1  OF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FOR USE OF THIS, SEE AR 37-108:  THE AGENCY DFAS-IN      PRC  3406                            19 DEC **           1 PAGES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O:  Purchasing and Contracting   Thru:                                      FROM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               Officer                DO ACCTS. MAINT. BRANCH                       POST ENGINEER               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              It is requested that the supplies and services enumerated below or on attached list be:           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RCHASED FOR                                    DELIVERED TO                                        NOT LATER THAN (DAT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POST ENGINEER, OFFICE, FT. STEWART, GA 31314      BULDING 555 AND 556                                29 DEC ** 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he Supplies and services listed below cannot be secured through             NAME AND TELEPHONE NO. OF PERSON TO CALL F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normal supply channels, and their procurement will not violate                ADDITIONAL INFORM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existing regulations, therefore, local procurement is necessary.                 MICHAEL H. ALIG, MAJ, CE   PH: 3388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LOCAL PURCHASE AUTHORIZED AS        REQUISITIONING NONAVAILABILITY                          FUND CERTIF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NORMAL MEANS OF SUPPLY FOR THE      OF ITEMS AND LOCAL PURCHASE IS         The supplies and services listed on this reque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XX FOREGOING BY:  DA CIR 372-4         AUTHORIZED BY                         .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re properly chargeable, the available balan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EMERGENCY SITUATIONS PRECLUDES USE OF REQUESTION CHANNELS                 are sufficient and funds have been committed.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           ESTIMATED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ACCOUNTING CLASSIFICATION            AMOU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ITM  DESCRIPTION OF SUPPLY/SVCS  QUANTITY  UNIT   UNIT PRICE    TOTAL COST  .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21*2020 76-9505 117096.Z0-25CZ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W23DFB33530001/L101 S09076        $   850.00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   REPAIR OF ROOFS - BLDGS                                                    DATE       CERTIFYING OFFICER     SIGNA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555 AND 556, INSIDE           1 JOB                                        01 DEC **    BILLY R. WRI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TORAGE AREA                                               $  850.00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           RM OFFICER              /S/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ISCOU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                                 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RCHA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RD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 NUMBER                          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ELIVE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                                                                                                                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HE FOREGOING ITEMS ARE REQUIRED NLT AS INDICATED ABOVE F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HE FOLLOWING PURPOSE                                                           APPROVED BY COMMANDING OFFICER OR HIS DESIGNE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USED BY US ARMY HOSPITAL FOR PATIENT DIAGNOSIS                                                                 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ATE        INITIATING OFFICER     SIGNATURE                   DATE               COMMANDING OFFICER OR       SIGNA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ICHAEL H. ALIG, MAJ                                                  DESIGNE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01 DEC **   PHONE NO.  3388            /S/   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ATE        SUPPLY OFFICER         SIGNATURE                    01 DEC **         ARRON E. WILSON                /S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LTC, G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01 DEC **    J.T. FIELDS              /S/                                        ACOFS, G4                      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09880" y="1587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34120" y="15876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77120" y="1587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467480" y="1587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438280" y="46368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429000" y="9208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010280" y="9208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410080" y="1301760"/>
            <a:ext cx="0" cy="326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248520" y="2825640"/>
            <a:ext cx="0" cy="173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848720" y="28256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2216160"/>
            <a:ext cx="0" cy="234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362320" y="2216160"/>
            <a:ext cx="0" cy="234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48120" y="2216160"/>
            <a:ext cx="0" cy="234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23684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419720" y="23684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267080" y="4578480"/>
            <a:ext cx="0" cy="135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438280" y="5111640"/>
            <a:ext cx="0" cy="82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38080" y="5111640"/>
            <a:ext cx="0" cy="82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638680" y="5111640"/>
            <a:ext cx="0" cy="82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543800" y="5111640"/>
            <a:ext cx="0" cy="82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7880" y="6188040"/>
            <a:ext cx="28638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A FORM 3953 1 AUG 76  (COMPUTER LOOK ALIK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4920" y="16826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438280" y="16826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743200" y="16826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8720" y="6324480"/>
            <a:ext cx="7822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                                                                                                               58                    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884320" y="246240"/>
            <a:ext cx="2767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RCIPS INTERFACE LIS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1400" y="825480"/>
            <a:ext cx="8944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A   BLK   YR   MAN HRS   EOE   APC I/O-GVT      DOC NO         MAP/IBOP   FNL-IND   VOUCHER-NO  AMOUNT   TFO/L-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1760" y="1206360"/>
            <a:ext cx="8182440" cy="17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0   100   *    560      1100  DPA6          CPA01CA6103364                           300018     3,987.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0   100   *             1200  DPA6          CPA01CA6103364                           300018        14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0   100   *             1200  DPA6          CPA01CA6103364                           300018       278.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0   100   *             1200  DPA6          CPA01CA6103364                           300018       146.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FND       560                                                                              4,426.6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APC       560                                                                              4,426.6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9360" y="2895480"/>
            <a:ext cx="843300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5680" y="4952880"/>
            <a:ext cx="843264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8080" y="5473800"/>
            <a:ext cx="8106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BLK   19,468                                                                            160,612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02240" y="520560"/>
            <a:ext cx="635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7/12/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4520" y="6388200"/>
            <a:ext cx="7790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                                                                                                                6                    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971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884320" y="246240"/>
            <a:ext cx="2767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RCIPS INTERFACE LIS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1400" y="825480"/>
            <a:ext cx="8944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A   BLK   YR   MAN HRS   EOE   APC I/O-GVT      DOC NO         MAP/IBOP   FNL-IND   VOUCHER-NO  AMOUNT   TFO/L-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1760" y="1206360"/>
            <a:ext cx="8182440" cy="17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1   100   *    392      1100  DPA6          CPA01CA6103364                   L       000000     2,791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1   100   *             1200  DPA6          CPA01CA6103364                   L       000000         9.9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1   100   *             1200  DPA6          CPA01CA6103364                   L       000000        53.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1   100   *             1200  DPA6          CPA01CA6103364                   L       000000       102.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FND       392                                                                              2,956.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APC       392                                                                              2,956.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9360" y="2895480"/>
            <a:ext cx="843300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5680" y="4952880"/>
            <a:ext cx="843264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7720" y="5473800"/>
            <a:ext cx="80301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BLK   13,627                                                                           112,428.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302240" y="520560"/>
            <a:ext cx="635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7/12/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4520" y="6388200"/>
            <a:ext cx="7790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                                                                                                                8                    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46880" y="379440"/>
            <a:ext cx="8548560" cy="5986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ISCELLANEOUS OBLIGATION DOCUMENT                   1. MOD NUMBER    2.ACCOUNTING CLASSIFICATION       3. DATE PREPAR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(Use reverse side for continuation of partial payment)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MODCPOT062    21*2020 76-9505 117096.PO-1100/    29 DEC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                           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1200 MOD**C93120001/NCHA S09076     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7.  INSTALLATION                                      5.  PREPARED BY                                      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NAME       CHIEF,  ACCOUNTING DIVISION            a.  SIGNATURE     /S/          B.  TITLE  CATHY LEE CPT, A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                                                                             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ADDRESS   FORT STEWART, GA  31314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6.  APPROVED BY                                      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SIGNATURE     /S/           B.  TITLE   JOHN P. WRIGHT, P &amp; 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                                                                                                          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7.  DESCRIPTON                                                                                           8.  AMOUNT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  TO RECORD DEC SUPPLEMENTAL CIVILIAN LABOR CHARGES FOR 1-31 DEC ** (OVERTIME) (150 Hours)     1100          $1,350  00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                                                                                               1200             150  00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9.  PARTIAL PAYMENT RECORD             A.  NAME OF VENDOR OR CONTRACTOR               B. CONTRACT OR PURCHASE ORDER NO.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                                                                                                          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CURED         ACCOUNTS                     BALANCE  (X ON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ATE         DESCRIPTION              OBLIGATION       EXPENDITURE       PAYABLE    DISBURSEMENT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 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ALANCE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UNLIQUIDATED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UNDELIVERED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   (1)             (2)                      (3)              (4)             (5)           (6)                (7)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  31 DEC **    OVERTIME                  $1,500.00        $1,500.00        $1,500.00                        $1,500.00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___________________________________________________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___________________________________________________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___________________________________________________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___________________________________________________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___________________________________________________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___________________________________________________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___________________________________________________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2400" y="6486480"/>
            <a:ext cx="26017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D FORM  2406, OCT **  (COMPUTER LOOK ALIK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387360"/>
            <a:ext cx="0" cy="121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19920" y="990720"/>
            <a:ext cx="0" cy="67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387360"/>
            <a:ext cx="0" cy="45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315200" y="3873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391520" y="16826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5880" y="2216160"/>
            <a:ext cx="0" cy="425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91520" y="2521080"/>
            <a:ext cx="0" cy="394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181480" y="2444760"/>
            <a:ext cx="0" cy="4025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44760"/>
            <a:ext cx="0" cy="394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95480" y="2216160"/>
            <a:ext cx="0" cy="425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19320" y="2444760"/>
            <a:ext cx="0" cy="4025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8720" y="6553080"/>
            <a:ext cx="78548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                                                                                                                10                    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899560" y="6137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46880" y="379440"/>
            <a:ext cx="8616960" cy="623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ISCELLANEOUS OBLIGATION DOCUMENT                   1. MOD NUMBER   2.ACCOUNTING CLASSIFICATION       3. DATE PREPAR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(Use reverse side for continuation of partial payment)   MODCPOT062    21*2020 76-9505 117096.PO-1100/    29 DEC **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                           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1200 MOD**C93120001/NCHA S09076      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7.  INSTALLATION                                      5.  PREPARED BY                                       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NAME       CHIEF,  ACCOUNTING DIVISION            a.  SIGNATURE     /S/          B.  TITLE  CATHY LEE CPT, A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                                                                              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ADDRESS   FORT STEWART, GA  31314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6.  APPROVED BY                                       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SIGNATURE     /S/           B.  TITLE   JOHN P. WRIGHT, P &amp; 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                                                                                                           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7.  DESCRIPTON                                                                                           8.  AMOUNT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  TO RECORD DEC SUPPLEMENTAL CIVILIAN LABOR CHARGES FOR 1-31 DEC ** (OVERTIME) (150 Hours)     1100        ($1,350  00)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                                                                                               1200          ($150  00)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9.  PARTIAL PAYMENT RECORD             A.  NAME OF VENDOR OR CONTRACTOR               B. CONTRACT OR PURCHAS ORDER NO.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                                                                                                           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CURED         ACCOUNTS                     BALANCE  (X ON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ATE         DESCRIPTION              OBLIGATION       EXPENDITURE       PAYABLE    DISBURSEMENT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  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ALANCE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UNLIQUIDATED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UNDELIVERED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   (1)             (2)                      (3)              (4)             (5)           (6)                (7)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  31 DEC **    OVERTIME                  ($1,500.00)     ($1,500.00)      ($1,500.00)                      ($1,500.00)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___________________________________________________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___________________________________________________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___________________________________________________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___________________________________________________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___________________________________________________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___________________________________________________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___________________________________________________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8880" y="6492960"/>
            <a:ext cx="26017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D FORM  2406, OCT **  (COMPUTER LOOK ALIK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86200" y="387360"/>
            <a:ext cx="0" cy="120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19920" y="99684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029200" y="3873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315200" y="3873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391520" y="16826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5880" y="2216160"/>
            <a:ext cx="0" cy="425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391520" y="2521080"/>
            <a:ext cx="0" cy="394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81480" y="2444760"/>
            <a:ext cx="0" cy="4025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038480" y="2444760"/>
            <a:ext cx="0" cy="394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95480" y="2216160"/>
            <a:ext cx="0" cy="425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19320" y="2444760"/>
            <a:ext cx="0" cy="4025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8720" y="6616800"/>
            <a:ext cx="78548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                                                                                                                12                    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1400" y="150840"/>
            <a:ext cx="8891280" cy="5986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RCHASE REQUEST AND COMMITMENT                 PURCHASE INSTR NO.     REQUISTION NO    DATE          PAGE    1  OF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FOR USE OF THIS, SEE AR 37-108:  THE AGENCY DFAS-IN      PRC  4111                             15NOV **             1 PAGES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O:  Purchasing and Contracting   Thru:                                      FROM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               Officer                DO ACCTS. MAINT. BRANCH                        POST HOSPITAL             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              It is requested that the supplies and services enumerated below or on attached list be:          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RCHASED FOR                                    DELIVERED TO                                        NOT LATER THAN (DAT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U.S. ARMY HOSPITAL, FT. STEWART, GA 31314                BLDG 648                                    1 DEC **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he Supplies and services listed below cannot be secured through             NAME AND LELEPHONE NO. OF PERSON TO CALL F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normal supply channels, and their procurement will not violate                ADDITIONAL INFORM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existing regulations, therefore, local procurement is necessary.                              J. L. RUSSEL, 3018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LOCAL PURCHASE AUTHORIZED AS        REQUISITIONING NONAVAILABILITY                          FUND CERTIF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NORMAL MEANS OF SUPPLY FOR THE      OF ITEMS AND LOCAL PURCHASE IS         The supplies and services listed on this reque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XX FOREGOING BY:  DA CIR 372-4         AUTHORIZED BY                         .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re properly chargeable, the available balan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EMERGENCY SITUATIONS PRECLUDES USE OF REQUESTION CHANNELS                 are sufficient and funds have been committed.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           ESTIMATED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ACCOUNTING CLASSIFICATION            AMOU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ITM  DESCRIPTION OF SUPPLY/SVCS  QUANTITY  UNIT   UNIT PRICE    TOTAL COST  .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21*2020 74-7407 847792.33-232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W23DFB3319004/W330  S09076        $100,0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   RENTAL OF X-RAY MACHINE      10 MOS    MO    $10,000.00    $100,000.00    DATE        CERTIFYING OFFICER     SIGNA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6 NOV **  K. NEWS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           RM OFFICER, DMEDA        /S/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ISCOU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                                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RCHA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RD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 NUMBER                         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ELIVE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                                                                                                               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HE FOREGOING ITEMS ARE REQUIRED NLT AS INDICATED ABOVE F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HE FOLLOWING PURPOSE                                                           APPROVED BY COMMANDING OFFICER OR HIS DESIGNE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USED BY US ARMY HOSPITAL FOR APTIENT DIAGNOSIS                                                                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ATE        INITIATING OFFICER     SIGNATURE                   DATE               COMMANDING OFFICER OR       SIGNA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R. HELLER, DAC                                                        DESIGNE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15 NOV **  PHONE NO.  3018            /S/   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ATE        SUPPLY OFFICER         SIGNATURE                    16 NOV **         ARRON E. WILSON                /S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LTC, G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15 NOV **   J.P. MORRIS, CW4         /S/                                         ACOFS, G4                     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9880" y="1587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15876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477120" y="1587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467480" y="1587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46368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9208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10280" y="9208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10080" y="1301760"/>
            <a:ext cx="0" cy="326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2825640"/>
            <a:ext cx="0" cy="173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848720" y="28256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2216160"/>
            <a:ext cx="0" cy="234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62320" y="2216160"/>
            <a:ext cx="0" cy="234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48120" y="2216160"/>
            <a:ext cx="0" cy="234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05320" y="23684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19720" y="23684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67080" y="4578480"/>
            <a:ext cx="0" cy="135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438280" y="5111640"/>
            <a:ext cx="0" cy="82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5111640"/>
            <a:ext cx="0" cy="82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638680" y="5111640"/>
            <a:ext cx="0" cy="82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543800" y="5111640"/>
            <a:ext cx="0" cy="82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400" y="6181560"/>
            <a:ext cx="28638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A FORM 3953 1 AUG 76  (COMPUTER LOOK ALIK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16826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38280" y="16826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743200" y="16826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8720" y="6324480"/>
            <a:ext cx="7822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                                                                                                               28                    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1040" y="150840"/>
            <a:ext cx="8960040" cy="5986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RCHASE REQUEST AND COMMITMENT                 PURCHASE INSTR NO.     REQUISTION NO    DATE          PAGE    1  OF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FOR USE OF THIS, SEE AR 37-108:  THE AGENCY DFAS-IN      PRC  3571                           20 SEP **             1 PAGES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O:  Purchasing and Contracting   Thru:                                      FROM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               Officer                DO ACCTS. MAINT. BRANCH                       POST SIGNAL OFFICER         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              It is requested that the supplies and services enumerated below or on attached list be:           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RCHASED FOR                                    DELIVERED TO                                        NOT LATER THAN (DAT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U.S. ARMY HOSPITAL, FT. STEWART, GA 31314                                                            1 DEC **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he Supplies and services listed below cannot be secured through             NAME AND LELEPHONE NO. OF PERSON TO CALL F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normal supply channels, and their procurement will not violate                ADDITIONAL INFORM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existing regulations, therefore, local procurement is necessary.                RALPH C. SANTO, MAJ, SC    PH: 1520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LOCAL PURCHASE AUTHORIZED AS        REQUISITIONING NONAVAILABILITY                          FUND CERTIF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NORMAL MEANS OF SUPPLY FOR THE      OF ITEMS AND LOCAL PURCHASE IS         The supplies and services listed on this reque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XX FOREGOING BY:  DA CIR 372-4         AUTHORIZED BY                         .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re properly chargeable, the available balan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EMERGENCY SITUATIONS PRECLUDES USE OF REQUESTION CHANNELS                 are sufficient and funds have been committed.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           ESTIMATED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ACCOUNTING CLASSIFICATION            AMOU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ITM  DESCRIPTION OF SUPPLY/SVCS  QUANTITY  UNIT   UNIT PRICE    TOTAL COST  .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21*2020 03-3116 117095.00-232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PHN1293GEOBELL/U330  S09076        $60,0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   TELEPHONE SERVICES 1 OCT-                                   $60,000.00      DATE       CERTIFYING OFFICER     SIGNA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31 DEC                                                                    20 SEP **    RONALD TURN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            RM OFFICER                /S/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ISCOU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                                 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RCHA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RD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 NUMBER                          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ELIVE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                                                                                                                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HE FOREGOING ITEMS ARE REQUIRED NLT AS INDICATED ABOVE F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HE FOLLOWING PURPOSE                                                           APPROVED BY COMMANDING OFFICER OR HIS DESIGNE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TELEPHONE SERVICE                                                                                             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ATE        INITIATING OFFICER     SIGNATURE                   DATE               COMMANDING OFFICER OR       SIGNA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ALPH C. SANTO, MAJ,SC                                                DESIGNE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20 SEP **  PHONE NO.  1520            /S/   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ATE        SUPPLY OFFICER         SIGNATURE                    20 SEP **         ARRON E. WILSON                /S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LTC, G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20 SEP **   J.P. MORRIS, CW4         /S/                                         ACOFS, G4                      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09880" y="1587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4120" y="15876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477120" y="1587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467480" y="1587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438280" y="46368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29000" y="9208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10280" y="9208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10080" y="1301760"/>
            <a:ext cx="0" cy="326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2825640"/>
            <a:ext cx="0" cy="173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848720" y="28256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2216160"/>
            <a:ext cx="0" cy="234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362320" y="2216160"/>
            <a:ext cx="0" cy="234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8120" y="2216160"/>
            <a:ext cx="0" cy="234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05320" y="23684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19720" y="23684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267080" y="4578480"/>
            <a:ext cx="0" cy="135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438280" y="5111640"/>
            <a:ext cx="0" cy="82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5111640"/>
            <a:ext cx="0" cy="82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638680" y="5111640"/>
            <a:ext cx="0" cy="82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543800" y="5111640"/>
            <a:ext cx="0" cy="82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7880" y="6188040"/>
            <a:ext cx="28638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A FORM 3953 1 AUG 76  (COMPUTER LOOK ALIK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16826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438280" y="16826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3200" y="16826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8720" y="6324480"/>
            <a:ext cx="7822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                                                                                                               36                    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1400" y="150840"/>
            <a:ext cx="8891280" cy="5986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RCHASE REQUEST AND COMMITMENT                 PURCHASE INSTR NO.     REQUISTION NO    DATE          PAGE    1  OF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FOR USE OF THIS, SEE AR 37-108:  THE AGENCY DFAS-IN      PRC  2404                             01 DEC **            1 PAGES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O:  Purchasing and Contracting   Thru:                                      FROM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               Officer                DO ACCTS. MAINT. BRANCH                       POST HOSPITAL              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              It is requested that the supplies and services enumerated below or on attached list be:          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RCHASED FOR                                    DELIVERED TO                                        NOT LATER THAN (DAT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POST HOSPITAL OFFICE, FT. STEWART, GA 31314                                                          1 JAN **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he Supplies and services listed below cannot be secured through             NAME AND LELEPHONE NO. OF PERSON TO CALL F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normal supply channels, and their procurement will not violate                ADDITIONAL INFORM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existing regulations, therefore, local procurement is necessary.                 RONALD S. CRANDALL     PH: 3018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LOCAL PURCHASE AUTHORIZED AS        REQUISITIONING NONAVAILABILITY                          FUND CERTIF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NORMAL MEANS OF SUPPLY FOR THE      OF ITEMS AND LOCAL PURCHASE IS         The supplies and services listed on this reque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XX FOREGOING BY:  DA CIR 372-4         AUTHORIZED BY                         .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re properly chargeable, the available balan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EMERGENCY SITUATIONS PRECLUDES USE OF REQUESTION CHANNELS                 are sufficient and funds have been committed.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           ESTIMATED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ACCOUNTING CLASSIFICATION            AMOU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ITM  DESCRIPTION OF SUPPLY/SVCS  QUANTITY  UNIT   UNIT PRICE    TOTAL COST  .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97*0130 74-7406 847792.60-25CZ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W23DFB33340001/W601  S09076        $163.00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   REPAIR OF HEATING AND                                      $   163.00      DATE       CERTIFYING OFFICER     SIGNA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LOWER SYSTEM OF POST        1 JOB                                         01 DEC **  K. NEWS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HOSPITAL                           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           RM OFFICER, DMEDA        /S/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ISCOU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                                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RCHA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RD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 NUMBER                         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ELIVE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                                                                                                               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HE FOREGOING ITEMS ARE REQUIRED NLT AS INDICATED ABOVE F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HE FOLLOWING PURPOSE                                                           APPROVED BY COMMANDING OFFICER OR HIS DESIGNE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USED BY US ARMY HOSPITAL FOR PATIENT DIAGNOSIS                                                                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ATE        INITIATING OFFICER     SIGNATURE                   DATE               COMMANDING OFFICER OR       SIGNA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NALD S. CRANDALL,COL                                                        DESIGNE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01 DEC **  PHONE NO.  3018            /S/   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ATE        SUPPLY OFFICER         SIGNATURE                    01 DEC**          ARRON E. WILSON                /S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LTC, G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01 DEC **   J.P. MORRIS, CW4         /S/                                         ACOFS, G4                     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09880" y="1587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4120" y="15876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477120" y="1587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467480" y="1587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438280" y="46368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9208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10280" y="9208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10080" y="1301760"/>
            <a:ext cx="0" cy="326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248520" y="2825640"/>
            <a:ext cx="0" cy="173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848720" y="28256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2216160"/>
            <a:ext cx="0" cy="234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62320" y="2216160"/>
            <a:ext cx="0" cy="234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48120" y="2216160"/>
            <a:ext cx="0" cy="234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05320" y="23684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19720" y="23684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267080" y="4578480"/>
            <a:ext cx="0" cy="135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38280" y="5111640"/>
            <a:ext cx="0" cy="82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5111640"/>
            <a:ext cx="0" cy="82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5111640"/>
            <a:ext cx="0" cy="82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543800" y="5111640"/>
            <a:ext cx="0" cy="82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400" y="6181560"/>
            <a:ext cx="28638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A FORM 3953 1 AUG 76  (COMPUTER LOOK ALIK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16826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438280" y="16826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743200" y="16826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8720" y="6324480"/>
            <a:ext cx="7822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                                                                                                               42                    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1040" y="150840"/>
            <a:ext cx="8960040" cy="5986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RCHASE REQUEST AND COMMITMENT                 PURCHASE INSTR NO.     REQUISTION NO    DATE          PAGE    1  OF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FOR USE OF THIS, SEE AR 37-108:  THE AGENCY DFAS-IN      PRC  1219                             01 DEC **            1 PAGES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O:  Purchasing and Contracting   Thru:                                      FROM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               Officer                DO ACCTS. MAINT. BRANCH                       POST ENGINEER               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              It is requested that the supplies and services enumerated below or on attached list be:           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RCHASED FOR                                    DELIVERED TO                                        NOT LATER THAN (DAT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POST ENGINEER, OFFICE, FT. STEWART, GA 31314                                                         15 FEB **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he Supplies and services listed below cannot be secured through             NAME AND TELEPHONE NO. OF PERSON TO CALL F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normal supply channels, and their procurement will not violate                ADDITIONAL INFORM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existing regulations, therefore, local procurement is necessary.                 MICHAEL H. ALIG, MAJ, CE   PH: 3388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LOCAL PURCHASE AUTHORIZED AS        REQUISITIONING NONAVAILABILITY                          FUND CERTIF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NORMAL MEANS OF SUPPLY FOR THE      OF ITEMS AND LOCAL PURCHASE IS         The supplies and services listed on this reque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XX FOREGOING BY:  DA CIR 372-4         AUTHORIZED BY                         .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re properly chargeable, the available balan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EMERGENCY SITUATIONS PRECLUDES USE OF REQUESTION CHANNELS                 are sufficient and funds have been committed.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           ESTIMATED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ACCOUNTING CLASSIFICATION            AMOU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ITM  DESCRIPTION OF SUPPLY/SVCS  QUANTITY  UNIT   UNIT PRICE    TOTAL COST  .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21*2020 76-9505 117096.Z0-25CZ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W23DFB33350009/L101 S09076        $10,642.00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   MINOR REPAIR AND PAINTING                                                  DATE       CERTIFYING OFFICER     SIGNA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XTERIOR OF BLDGS. 3408      1 JOB                                         01 DEC**    BILLY R. WRI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3207,  4603, 4909, 4881,                                    $10,642.00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           RM OFFICER              /S/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5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ISCOU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                                 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RCHA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RD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 NUMBER                          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ELIVE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                                                                                                                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HE FOREGOING ITEMS ARE REQUIRED NLT AS INDICATED ABOVE F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HE FOLLOWING PURPOSE                                                           APPROVED BY COMMANDING OFFICER OR HIS DESIGNE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USED BY US ARMY HOSPITAL FOR APTIENT DIAGNOSIS                                                                 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ATE        INITIATING OFFICER     SIGNATURE                   DATE               COMMANDING OFFICER OR       SIGNA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ICHAEL H. ALIG, MAJ                                                  DESIGNE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01 DEC**    PHONE NO.  3388            /S/   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ATE        SUPPLY OFFICER         SIGNATURE                    01 DEC **         ARRON E. WILSON                /S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LTC, G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01 DEC**     J.T. FIELDS              /S/                                         ACOFS, G4                     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9880" y="1587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4120" y="15876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77120" y="1587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67480" y="1587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438280" y="46368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429000" y="9208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010280" y="9208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10080" y="1301760"/>
            <a:ext cx="0" cy="326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248520" y="2825640"/>
            <a:ext cx="0" cy="173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848720" y="28256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2216160"/>
            <a:ext cx="0" cy="234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362320" y="2216160"/>
            <a:ext cx="0" cy="234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48120" y="2216160"/>
            <a:ext cx="0" cy="234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05320" y="23684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419720" y="23684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4578480"/>
            <a:ext cx="0" cy="135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38280" y="5111640"/>
            <a:ext cx="0" cy="82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080" y="5111640"/>
            <a:ext cx="0" cy="82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638680" y="5111640"/>
            <a:ext cx="0" cy="82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543800" y="5111640"/>
            <a:ext cx="0" cy="82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1400" y="6181560"/>
            <a:ext cx="28638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A FORM 3953 1 AUG 76  (COMPUTER LOOK ALIK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4920" y="16826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438280" y="16826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743200" y="16826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8720" y="6324480"/>
            <a:ext cx="7822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                                                                                                               50                    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8-17T17:39:38Z</dcterms:created>
  <dc:creator>Soldier Support Institute</dc:creator>
  <dc:description/>
  <dc:language>en-US</dc:language>
  <cp:lastModifiedBy>Administrator</cp:lastModifiedBy>
  <cp:lastPrinted>2000-06-20T16:55:16Z</cp:lastPrinted>
  <dcterms:modified xsi:type="dcterms:W3CDTF">2004-03-31T00:00:31Z</dcterms:modified>
  <cp:revision>12</cp:revision>
  <dc:subject/>
  <dc:title>No Slide Title</dc:title>
</cp:coreProperties>
</file>